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9184-62D4-4082-A593-C87FAE10C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815C-EC23-4450-8B95-740B8FBB5F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AD8-436D-4529-9120-F632C4A4B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D147-30CD-47E8-A623-7D228D0B36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819B-31A3-46CF-84E7-F360A4925A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6A63-D724-49C7-8B23-69798A3CD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5453-D0CE-4176-95F1-037F501C42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B715-6A1E-4B93-A7D7-4BFEAFB63B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80D6-B2E6-49D1-BE8E-35F69CB26E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AB5B-2F30-493E-98A4-6D2C6848E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D16B-F4D7-4AD8-9524-D9C0DFD9C2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EE8-C46D-4825-91A2-DA9672FA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C0F-DC5B-4441-A261-1839684C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94B-A071-4DE9-A6DF-BFD4505C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740-B717-403C-BDF7-73466E2F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CE66-131A-4A5F-B311-5B7605BF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7C9D-5C12-422F-8711-8C0F4636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4D68-7CDC-4AE5-9D14-D7923A34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EB3F-F832-4DFC-B94E-F6E5A18C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5D7F-1462-4740-A27F-06C0B7C4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27C2-40DB-464D-B5B4-603CDC8E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A9CC-C7DC-4938-ABFB-4DE43529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277-816B-47EA-B926-E6E10127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2A74-7732-48CD-88B1-1E923D4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0C5B-F7E5-430E-B742-67518C1B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3A0C-AB49-4B6F-B681-8DFA185E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4F42-099E-4E43-AC64-092C28A1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7408-12B6-444D-BB90-E971826D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051-E5EB-43E5-A55C-D9DFAFC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6A6-D7E8-46BC-9D0C-3753143A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31D-E3F3-4BCB-97EE-D357CFC0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207-20D8-4932-A29B-FAC7EB39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6DC-198D-4751-A136-3220F1AB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86D-40D4-496C-8143-B4C7B458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E85-D8B4-4485-8576-430414FE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322F-AA21-4CCD-B870-85438C678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Line 4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38F-17E4-42BB-AD85-038870200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Minister</a:t>
            </a:r>
            <a:r>
              <a:rPr b="0" i="1" lang="ja-JP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s Black Veil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haniel Hawthor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onnecting to the Literature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cret, when kept too long can take on a mysterious signific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cause people to fill in the missing story and draw their own untrue conclu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nist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Black Veil,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Puritan parson keeps a secret from an entire village for his whole 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Nathaniel Hawthorne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04 – 18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n in Salem, Massachuse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ended from a prominent Puritan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ved that evil was a dominant force in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fiction expresses a gloomy vision of human affai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Inherited Guil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of Hawthorn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ancestors was a Puritan judge who played a key role in the Salem witchcraft tri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ancestor was a judge known for his persecution of Qua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Hawthorn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character and focus as a writer were shaped by a sense of inherited gui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was haunted by the intolerance and cruelty of ances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was not a Puritan and was born 112 years after the Salem witchcraft tri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Minister</a:t>
            </a:r>
            <a:r>
              <a:rPr b="0" i="1" lang="ja-JP" sz="4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s Black Veil:  A Parabl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ble: a simple, usually brief , story that teaches a moral less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Allegory which is a story with both a literal and a symbolic m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ubtitling this story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rable,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wthorne indicates that the moral lesson it conveys is import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onnecting Literary Element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eil that Mr. Hooper vows never to remove is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mbol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s meaning in itself while also standing for something gre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the message expressed, analyze vei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symbolic m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aled through responses of parishio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aled in ministe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own deathbed explan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Reading Strateg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inferences about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message of work of fiction is conveyed indirectly through symbols, the reade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raw inferences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conclu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closely at details, especially descriptions and dialog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Inference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inferences is a way of interpreting a characte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behavior, statements, or an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tion Dialog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s changed himself into something awful, only by hiding his face.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ence:  Villagers are frightened by the ve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ocabular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erabl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ing respect p. 34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quity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in; wickedness (p.34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corous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proper (p. 34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tentatious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ended to attract notice; showy (p. 343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gacious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hrewd; perceptive (p. 34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ocabular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gary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predictable occurrence p. 3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aracterized by trembling (p. 34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ggery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schievous humor (p.34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ertinent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t showing proper respect (p. 34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tinacy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ubborn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0:25:22Z</dcterms:created>
  <dc:creator>Nancy Sullivan</dc:creator>
  <dc:description/>
  <dc:language>en-US</dc:language>
  <cp:lastModifiedBy>Sharon Spada</cp:lastModifiedBy>
  <dcterms:modified xsi:type="dcterms:W3CDTF">2015-10-23T13:23:13Z</dcterms:modified>
  <cp:revision>4</cp:revision>
  <dc:subject/>
  <dc:title>The Minister’s Black Veil</dc:title>
</cp:coreProperties>
</file>